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57F-9353-4276-B0F0-816D92C8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781-CADF-4AE9-AD51-FA6A5898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BA0-3B9A-4051-9719-F24F8F59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70B-52A2-450A-8846-D06ECA3E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F09-853E-4DE0-B84E-6B8CE442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505-22D0-438A-8D40-37F4F74D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C19-6613-499C-BB9F-BAB7654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F5D-4DB2-4838-BB91-B6B8FE51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456-A954-4DEF-8F7E-ACEAD6EC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B1C-3B7A-49B4-8F77-576E873C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331-41F1-4D65-8EE8-58616BD0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F12-D76E-4CC7-AD92-F06EBCEA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DF0F-02E1-4115-B1A8-78ECA48E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349960" cy="590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8972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81280" y="1504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6520" y="148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720" y="36655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076640"/>
            <a:ext cx="12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caled olor com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tri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PIP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S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560" y="7840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68960" y="1846440"/>
            <a:ext cx="3767040" cy="3860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360" y="136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65320" y="1773360"/>
            <a:ext cx="2186280" cy="412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676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5440" y="14860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7480" y="155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2492280"/>
            <a:ext cx="2340000" cy="243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83120" y="4365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6760" y="3213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86040" y="2492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76600" y="3284640"/>
            <a:ext cx="431640" cy="21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04960" y="3862440"/>
            <a:ext cx="432000" cy="71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6600" y="4292640"/>
            <a:ext cx="431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760" y="1865160"/>
            <a:ext cx="27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eference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355-linescan-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0" y="1557360"/>
            <a:ext cx="8964360" cy="439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1T02:44:29Z</dcterms:created>
  <dc:creator>Adam Hitchcock</dc:creator>
  <dc:description/>
  <dc:language>en-US</dc:language>
  <cp:lastModifiedBy>Adam Hitchcock</cp:lastModifiedBy>
  <dcterms:modified xsi:type="dcterms:W3CDTF">2023-01-11T21:48:16Z</dcterms:modified>
  <cp:revision>2</cp:revision>
  <dc:subject/>
  <dc:title>Slide 1</dc:title>
</cp:coreProperties>
</file>