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A00-9246-40D4-8281-169465CD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BF9-99CB-4FB6-92AB-628F86E2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2F1-2DC2-46DF-8ABD-2ACEE228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6FC-918E-496D-B8DD-902A8CE3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3AD-89EB-450F-B8DD-CE6F7E29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CFA-B918-468E-B8ED-41B74217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525-36EC-48DD-B619-C9DAB44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B4C-3A8F-4AB1-8842-E84291C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A80-B15E-4ACE-8780-62F1FED4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770-5958-437C-82EE-832B6566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6B1-A646-4B5E-9C5D-3B375DAA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240-BC0B-4A68-B1AB-8D8D245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C41-BF68-4E2B-BC6C-9672C626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349960" cy="590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972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81280" y="1504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652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36655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076640"/>
            <a:ext cx="12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caled olor com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tri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PIP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S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560" y="784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68960" y="1846440"/>
            <a:ext cx="3767040" cy="386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360" y="136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65320" y="1773360"/>
            <a:ext cx="2186280" cy="41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676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5440" y="1486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7480" y="155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2492280"/>
            <a:ext cx="2340000" cy="243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83120" y="4365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6760" y="3213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86040" y="2492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3284640"/>
            <a:ext cx="431640" cy="21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04960" y="3862440"/>
            <a:ext cx="432000" cy="71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6600" y="4292640"/>
            <a:ext cx="431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760" y="1865160"/>
            <a:ext cx="27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eference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355-linescan-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" y="1557360"/>
            <a:ext cx="8964360" cy="439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1T02:44:29Z</dcterms:created>
  <dc:creator>Adam Hitchcock</dc:creator>
  <dc:description/>
  <dc:language>en-US</dc:language>
  <cp:lastModifiedBy>Adam Hitchcock</cp:lastModifiedBy>
  <dcterms:modified xsi:type="dcterms:W3CDTF">2023-01-11T21:48:16Z</dcterms:modified>
  <cp:revision>2</cp:revision>
  <dc:subject/>
  <dc:title>Slide 1</dc:title>
</cp:coreProperties>
</file>