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FF9D2-E1F7-4F9E-8D82-744C36329D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C6A04-5CED-44F8-AAF7-951454F313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39B45-ECFD-429B-81AD-7C45ECE926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2DC0E-A464-4969-8A88-BCA5A691A91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59BC1-6467-4E29-A361-4989F9752B3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8654D-C698-41CD-AE6F-DF014FD352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EA7CE-C125-404E-A65F-BBEA6977B1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B061D-B0CB-415E-89B2-D85D61AC10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-360" y="-168120"/>
            <a:ext cx="4551480" cy="382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68A3C-9A58-447F-8985-D532388146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B4D9C-E4BA-4017-9314-8AF1681DBD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B6615-830A-4F88-BA6A-2CCD458D8D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3D486-555E-429C-A073-EDE3199538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934320" y="6533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341A9-DD69-4C75-9821-C7B406AE1FF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-179280"/>
            <a:ext cx="409104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mproving output of imag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"/>
          <p:cNvSpPr/>
          <p:nvPr/>
        </p:nvSpPr>
        <p:spPr>
          <a:xfrm>
            <a:off x="152280" y="685800"/>
            <a:ext cx="899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Xiaohui Zhu, Adam Hitchcock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McMast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8680" y="6504120"/>
            <a:ext cx="402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riting_high_quality_images_from_IDL.ppt  20-Oct-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7800" y="1300320"/>
            <a:ext cx="814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GOALS: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save a graphical image file that preserves ALL of the quality of the images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7F552-9B4A-417D-8194-904D0AC2133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134604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2119320"/>
            <a:ext cx="3746520" cy="47386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12760" y="547560"/>
            <a:ext cx="8245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13-mag-cell.axb;  data is [671,847).  If use any of the image writers in aXis2000 they only get the data in the Main window display, which in most cases is 360*SCL maximum dimension , where SCL is the scale factor in axis_win.ini.  So for this data you need SCL = 2.4 to get all the pix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71800" y="1614600"/>
            <a:ext cx="455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vscl, a.d 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here a=axb_load(file=‘013-mag-cell.axb’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40120" y="1309680"/>
            <a:ext cx="137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reen shot 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14502" t="11126" r="14754" b="2616"/>
          <a:stretch/>
        </p:blipFill>
        <p:spPr>
          <a:xfrm>
            <a:off x="4038480" y="2362320"/>
            <a:ext cx="2124360" cy="27432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438280" y="3686040"/>
            <a:ext cx="76212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697800" y="2286000"/>
            <a:ext cx="2344680" cy="2819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878880" y="5410080"/>
            <a:ext cx="2206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ame area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tycho-mtb-figure_02.t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1EF74-979C-4409-97FB-1D005387250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168120"/>
            <a:ext cx="517032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ing ILD command line process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"/>
          <p:cNvSpPr/>
          <p:nvPr/>
        </p:nvSpPr>
        <p:spPr>
          <a:xfrm>
            <a:off x="340560" y="609480"/>
            <a:ext cx="713916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a=axb_load(file=‘013-mag-cell.axb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q=a.d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the data arr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r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g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b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scl = 255/(max(q)-min(q))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scale the data to fill 0-255 (8-bi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e = fix((q-min(q))*scl)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convert scaled data (full range) to by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write_png, 'test.png', e,  r, g ,b            ; writes a loss-less png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2514600"/>
            <a:ext cx="3316320" cy="4186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120200" y="2590920"/>
            <a:ext cx="166680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s it any better ?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962520" y="3352680"/>
            <a:ext cx="2276280" cy="22482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590920" y="3962520"/>
            <a:ext cx="6094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rcRect l="14502" t="11126" r="14754" b="2616"/>
          <a:stretch/>
        </p:blipFill>
        <p:spPr>
          <a:xfrm>
            <a:off x="6629400" y="3352680"/>
            <a:ext cx="1770120" cy="2286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049280" y="6033960"/>
            <a:ext cx="198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t least it is as good !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1AA55-CE29-483C-A3E6-A677AE3652A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6T06:38:15Z</dcterms:created>
  <dc:creator>Adam Hitchcock</dc:creator>
  <dc:description/>
  <dc:language>en-US</dc:language>
  <cp:lastModifiedBy>aph</cp:lastModifiedBy>
  <dcterms:modified xsi:type="dcterms:W3CDTF">2016-10-21T17:15:46Z</dcterms:modified>
  <cp:revision>33</cp:revision>
  <dc:subject/>
  <dc:title>Slide 1</dc:title>
</cp:coreProperties>
</file>