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54A-848A-4D4F-B98E-862FA847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592-D85D-45D9-909F-412ED2A3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DCA-C969-47AF-AE8D-BA7A92E8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86C-7A40-4A8D-9C2F-F5A9F485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195-A4EF-4165-A4B5-E970193D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0C5-E82E-4B13-9D36-2FA55F3F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787-9227-4D66-888D-633C7E7F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FBA-883B-4ACC-842B-57D1D290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84320" y="-132840"/>
            <a:ext cx="4400640" cy="43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E2F-6C59-440A-97A4-872A72E7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825-A7F3-4BFC-9BD9-D96A421B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1D0-F7F5-45A3-B72F-E4C918C9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C68-A773-460D-BBFA-77F4D0AF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0152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057040" y="65721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03584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06C7-3BF4-477B-A3A7-1D826DA4B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9320" y="152280"/>
            <a:ext cx="1834920" cy="1312920"/>
            <a:chOff x="49320" y="152280"/>
            <a:chExt cx="1834920" cy="1312920"/>
          </a:xfrm>
        </p:grpSpPr>
        <p:sp>
          <p:nvSpPr>
            <p:cNvPr id="6" name=""/>
            <p:cNvSpPr/>
            <p:nvPr/>
          </p:nvSpPr>
          <p:spPr>
            <a:xfrm>
              <a:off x="304920" y="1066680"/>
              <a:ext cx="380880" cy="39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066680"/>
              <a:ext cx="457200" cy="32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320" y="1066680"/>
              <a:ext cx="484200" cy="193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9200" y="152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609480" y="152280"/>
              <a:ext cx="1274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09480" y="990720"/>
              <a:ext cx="914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520" y="457200"/>
              <a:ext cx="685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4"/>
            <a:stretch/>
          </p:blipFill>
          <p:spPr>
            <a:xfrm>
              <a:off x="631800" y="380880"/>
              <a:ext cx="51120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68680"/>
            <a:ext cx="2384280" cy="4189320"/>
            <a:chOff x="0" y="2668680"/>
            <a:chExt cx="2384280" cy="4189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3495600"/>
              <a:ext cx="238428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6720" y="2668680"/>
              <a:ext cx="19548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Wet samples m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 ‘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in situ’ in bio re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(Saskatoon, S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rcRect l="3880" t="4094" r="3800" b="2485"/>
          <a:stretch/>
        </p:blipFill>
        <p:spPr>
          <a:xfrm>
            <a:off x="2874960" y="476280"/>
            <a:ext cx="1541520" cy="137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879640" y="150660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1" lang="en-US" sz="1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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67080"/>
            <a:ext cx="22860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57680" y="696960"/>
            <a:ext cx="1557000" cy="6157800"/>
            <a:chOff x="2857680" y="696960"/>
            <a:chExt cx="1557000" cy="6157800"/>
          </a:xfrm>
        </p:grpSpPr>
        <p:pic>
          <p:nvPicPr>
            <p:cNvPr id="58" name="" descr=""/>
            <p:cNvPicPr/>
            <p:nvPr/>
          </p:nvPicPr>
          <p:blipFill>
            <a:blip r:embed="rId3"/>
            <a:srcRect l="0" t="23587" r="4170" b="0"/>
            <a:stretch/>
          </p:blipFill>
          <p:spPr>
            <a:xfrm>
              <a:off x="2857680" y="1959120"/>
              <a:ext cx="1314360" cy="4895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995640" y="696960"/>
              <a:ext cx="419040" cy="11523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610080" y="409680"/>
            <a:ext cx="5148000" cy="4151160"/>
            <a:chOff x="3610080" y="409680"/>
            <a:chExt cx="5148000" cy="41511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513320" y="409680"/>
              <a:ext cx="4244760" cy="415116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>
              <a:off x="5670000" y="4178160"/>
              <a:ext cx="6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10080" y="3876840"/>
              <a:ext cx="314280" cy="323640"/>
            </a:xfrm>
            <a:prstGeom prst="rect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0" y="0"/>
            <a:ext cx="3402000" cy="528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TXM of wet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3320" y="4648320"/>
            <a:ext cx="2209680" cy="2209680"/>
            <a:chOff x="4513320" y="4648320"/>
            <a:chExt cx="2209680" cy="2209680"/>
          </a:xfrm>
        </p:grpSpPr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4513320" y="4657680"/>
              <a:ext cx="2209680" cy="220032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4528080" y="4648320"/>
              <a:ext cx="8514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Comic Sans MS"/>
                </a:rPr>
                <a:t>F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en-US" sz="1800" spc="-1" strike="noStrike">
                  <a:solidFill>
                    <a:srgbClr val="0033cc"/>
                  </a:solidFill>
                  <a:latin typeface="Comic Sans MS"/>
                </a:rPr>
                <a:t>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144960" y="3576600"/>
            <a:ext cx="5636520" cy="3233880"/>
            <a:chOff x="3144960" y="3576600"/>
            <a:chExt cx="5636520" cy="3233880"/>
          </a:xfrm>
        </p:grpSpPr>
        <p:grpSp>
          <p:nvGrpSpPr>
            <p:cNvPr id="69" name=""/>
            <p:cNvGrpSpPr/>
            <p:nvPr/>
          </p:nvGrpSpPr>
          <p:grpSpPr>
            <a:xfrm>
              <a:off x="3144960" y="3576600"/>
              <a:ext cx="5618160" cy="3233880"/>
              <a:chOff x="3144960" y="3576600"/>
              <a:chExt cx="5618160" cy="3233880"/>
            </a:xfrm>
          </p:grpSpPr>
          <p:pic>
            <p:nvPicPr>
              <p:cNvPr id="70" name="" descr=""/>
              <p:cNvPicPr/>
              <p:nvPr/>
            </p:nvPicPr>
            <p:blipFill>
              <a:blip r:embed="rId7"/>
              <a:srcRect l="30363" t="6837" r="12824" b="28277"/>
              <a:stretch/>
            </p:blipFill>
            <p:spPr>
              <a:xfrm>
                <a:off x="6827760" y="4657680"/>
                <a:ext cx="1935360" cy="21528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7540560" y="5254560"/>
                <a:ext cx="1135080" cy="10987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44960" y="3576600"/>
                <a:ext cx="1008000" cy="93492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7979040" y="4638600"/>
              <a:ext cx="8024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1000" y="1523880"/>
            <a:ext cx="243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omic Sans MS"/>
              </a:rPr>
              <a:t>Adam Hitchcock, Jay Dy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McMaster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John Lawwren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George Swer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NW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4724640" cy="528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iological mapping in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821200" y="3657600"/>
            <a:ext cx="2733840" cy="2855880"/>
            <a:chOff x="5821200" y="3657600"/>
            <a:chExt cx="2733840" cy="28558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940360" y="3994200"/>
              <a:ext cx="25290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821200" y="3657600"/>
              <a:ext cx="27338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ei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 ‘</a:t>
              </a:r>
              <a:r>
                <a:rPr b="1" lang="en-US" sz="1400" spc="-1" strike="noStrike">
                  <a:solidFill>
                    <a:srgbClr val="0066ff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978520" y="533520"/>
            <a:ext cx="2575800" cy="2945160"/>
            <a:chOff x="5978520" y="533520"/>
            <a:chExt cx="2575800" cy="2945160"/>
          </a:xfrm>
        </p:grpSpPr>
        <p:pic>
          <p:nvPicPr>
            <p:cNvPr id="81" name="" descr=""/>
            <p:cNvPicPr/>
            <p:nvPr/>
          </p:nvPicPr>
          <p:blipFill>
            <a:blip r:embed="rId3"/>
            <a:srcRect l="1323" t="0" r="0" b="0"/>
            <a:stretch/>
          </p:blipFill>
          <p:spPr>
            <a:xfrm>
              <a:off x="5978520" y="925560"/>
              <a:ext cx="24937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098560" y="329580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12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29280" y="533520"/>
              <a:ext cx="1012680" cy="3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76720" y="3657600"/>
            <a:ext cx="2561040" cy="2895840"/>
            <a:chOff x="3276720" y="3657600"/>
            <a:chExt cx="2561040" cy="28958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276720" y="3993840"/>
              <a:ext cx="2506320" cy="25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434560" y="637056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7320" y="399384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2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8400" y="3657600"/>
              <a:ext cx="567720" cy="27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‘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67000" y="533520"/>
            <a:ext cx="2623320" cy="2945160"/>
            <a:chOff x="3267000" y="533520"/>
            <a:chExt cx="2623320" cy="294516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3267000" y="947880"/>
              <a:ext cx="251928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27200" y="15908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3295800"/>
              <a:ext cx="267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9440" y="533520"/>
              <a:ext cx="644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Prot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5080" y="1335240"/>
              <a:ext cx="54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2514600"/>
            <a:ext cx="7010280" cy="4343400"/>
            <a:chOff x="0" y="2514600"/>
            <a:chExt cx="7010280" cy="4343400"/>
          </a:xfrm>
        </p:grpSpPr>
        <p:sp>
          <p:nvSpPr>
            <p:cNvPr id="98" name=""/>
            <p:cNvSpPr/>
            <p:nvPr/>
          </p:nvSpPr>
          <p:spPr>
            <a:xfrm>
              <a:off x="0" y="2514600"/>
              <a:ext cx="27432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92040" y="4221000"/>
              <a:ext cx="6618240" cy="2594160"/>
              <a:chOff x="392040" y="4221000"/>
              <a:chExt cx="6618240" cy="2594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92040" y="4601880"/>
                <a:ext cx="2084040" cy="2213280"/>
                <a:chOff x="392040" y="4601880"/>
                <a:chExt cx="2084040" cy="2213280"/>
              </a:xfrm>
            </p:grpSpPr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9960" y="4906800"/>
                  <a:ext cx="1585800" cy="159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>
                  <a:off x="728640" y="6252840"/>
                  <a:ext cx="432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09480" y="6232320"/>
                  <a:ext cx="70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</a:rPr>
                    <a:t>5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57200" y="4601880"/>
                  <a:ext cx="1971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400" spc="-1" strike="noStrike">
                      <a:solidFill>
                        <a:srgbClr val="ff0000"/>
                      </a:solidFill>
                      <a:latin typeface="Times New Roman"/>
                    </a:rPr>
                    <a:t>Protein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CA" sz="1400" spc="-1" strike="noStrike">
                      <a:solidFill>
                        <a:srgbClr val="009900"/>
                      </a:solidFill>
                      <a:latin typeface="Times New Roman"/>
                    </a:rPr>
                    <a:t>‘lipid’ 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CA" sz="1400" spc="-1" strike="noStrike">
                      <a:solidFill>
                        <a:srgbClr val="0033cc"/>
                      </a:solidFill>
                      <a:latin typeface="Times New Roman"/>
                    </a:rPr>
                    <a:t>CaCO</a:t>
                  </a:r>
                  <a:r>
                    <a:rPr b="1" lang="en-CA" sz="14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2040" y="6405120"/>
                  <a:ext cx="2084040" cy="41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600" spc="-1" strike="noStrike">
                      <a:solidFill>
                        <a:srgbClr val="000000"/>
                      </a:solidFill>
                      <a:latin typeface="Comic Sans MS"/>
                    </a:rPr>
                    <a:t>bacterial "armour" ?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286000" y="4221000"/>
                <a:ext cx="4724280" cy="1066680"/>
                <a:chOff x="2286000" y="4221000"/>
                <a:chExt cx="4724280" cy="1066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553080" y="4221000"/>
                  <a:ext cx="457200" cy="380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286000" y="4373280"/>
                  <a:ext cx="4267080" cy="9144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176760" y="0"/>
            <a:ext cx="2453760" cy="4610160"/>
            <a:chOff x="176760" y="0"/>
            <a:chExt cx="2453760" cy="4610160"/>
          </a:xfrm>
        </p:grpSpPr>
        <p:graphicFrame>
          <p:nvGraphicFramePr>
            <p:cNvPr id="110" name=""/>
            <p:cNvGraphicFramePr/>
            <p:nvPr/>
          </p:nvGraphicFramePr>
          <p:xfrm>
            <a:off x="358920" y="318960"/>
            <a:ext cx="2271600" cy="429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920" y="318960"/>
                      <a:ext cx="2271600" cy="429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76760" y="0"/>
              <a:ext cx="24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eference spectra (intern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51000" y="6573960"/>
            <a:ext cx="56491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R. Lawrence et al   Applied Environmental Microbiolog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5543-555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7:21:13Z</dcterms:created>
  <dc:creator>Adam P. Hitchcock</dc:creator>
  <dc:description/>
  <dc:language>en-US</dc:language>
  <cp:lastModifiedBy>Adam Hitchcock</cp:lastModifiedBy>
  <cp:lastPrinted>1999-09-17T00:03:46Z</cp:lastPrinted>
  <dcterms:modified xsi:type="dcterms:W3CDTF">2023-05-07T20:32:51Z</dcterms:modified>
  <cp:revision>540</cp:revision>
  <dc:subject/>
  <dc:title>No Slide Title</dc:title>
</cp:coreProperties>
</file>