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29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11.png" ContentType="image/png"/>
  <Override PartName="/ppt/media/image6.wmf" ContentType="image/x-wmf"/>
  <Override PartName="/ppt/media/image46.png" ContentType="image/png"/>
  <Override PartName="/ppt/media/image36.png" ContentType="image/png"/>
  <Override PartName="/ppt/media/image40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7760C-2CDC-48ED-A221-4C590ED69E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RF-STXM-details.pdf  10 Feb 2013  - elastic scatter (angle) never publis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– insert) Image: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0628033  (1700 EV, circle is known as hot sp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) Polarization dependence : XGLabd (txt) 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100628012.dta to 100628019.dta   (20 is 300 sec also at 1700 eV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B) from excel file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RF-elastic-signal-Jun2010.x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Envi_Sci_Tech (2012) Fig. 3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D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_Sci_Tech (2012) Fig. 3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SXM-London-2012.ppt   WHAT IS PUBLISHED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) Stxm11\2010\10-10\10-02\001     Y:\data\XRM\stxm-11\2010\10-10\10-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) XRM\stxm-11\2010\10-10\10-02\003   stack of stacks (bit integrated XR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-d) 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itized ref. spectra from  Geochim_Cosmochim_Acta_72_2008_3949-As-NEXAFS-acid-mines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XRF-yield NEXAFS:   stxm11\2010\10-10\10-03\03-02\003        Y:\data\XRM\stxm-11\2010\10-10\10-02\11_10100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S Feb 2012   stack A120205008  (*.ssb – all XRF saved)  stack  stack A120205046 – channels only (but Mg / As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A120205044 area for stack 46 (lower slits &amp; flux; PMT, 1 ms dw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876560" y="8488440"/>
            <a:ext cx="1770120" cy="269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.xml"/><Relationship Id="rId11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2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5.png"/><Relationship Id="rId10" Type="http://schemas.openxmlformats.org/officeDocument/2006/relationships/image" Target="../media/image36.png"/><Relationship Id="rId11" Type="http://schemas.openxmlformats.org/officeDocument/2006/relationships/image" Target="../media/image37.png"/><Relationship Id="rId1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8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0" y="8762400"/>
            <a:ext cx="161784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. 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52280" y="1066680"/>
          <a:ext cx="3306960" cy="232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3306960" cy="232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8" name=""/>
          <p:cNvGrpSpPr/>
          <p:nvPr/>
        </p:nvGrpSpPr>
        <p:grpSpPr>
          <a:xfrm>
            <a:off x="762120" y="1219320"/>
            <a:ext cx="1143000" cy="1181160"/>
            <a:chOff x="762120" y="1219320"/>
            <a:chExt cx="1143000" cy="1181160"/>
          </a:xfrm>
        </p:grpSpPr>
        <p:pic>
          <p:nvPicPr>
            <p:cNvPr id="49" name="" descr=""/>
            <p:cNvPicPr/>
            <p:nvPr/>
          </p:nvPicPr>
          <p:blipFill>
            <a:blip r:embed="rId3"/>
            <a:stretch/>
          </p:blipFill>
          <p:spPr>
            <a:xfrm>
              <a:off x="762120" y="1219320"/>
              <a:ext cx="1143000" cy="11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1285200" y="1887840"/>
              <a:ext cx="87120" cy="8892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742320" y="205740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1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165640" y="120492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505320" y="1066680"/>
          <a:ext cx="2824200" cy="2009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505320" y="1066680"/>
                    <a:ext cx="2824200" cy="20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595440" y="7732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11680" y="8380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352680" y="3352680"/>
          <a:ext cx="3200400" cy="2283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352680" y="3352680"/>
                    <a:ext cx="3200400" cy="22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380880" y="3505320"/>
          <a:ext cx="3124440" cy="22082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80880" y="3505320"/>
                    <a:ext cx="3124440" cy="22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595440" y="32115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19880" y="32115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0" y="8762400"/>
            <a:ext cx="161784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. 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53"/>
          <p:cNvGraphicFramePr/>
          <p:nvPr/>
        </p:nvGraphicFramePr>
        <p:xfrm>
          <a:off x="0" y="609480"/>
          <a:ext cx="3841920" cy="662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5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09480"/>
                    <a:ext cx="384192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Text Box 46"/>
          <p:cNvSpPr/>
          <p:nvPr/>
        </p:nvSpPr>
        <p:spPr>
          <a:xfrm>
            <a:off x="4082400" y="264960"/>
            <a:ext cx="2363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mic Sans MS"/>
                <a:ea typeface="MS PGothic"/>
              </a:rPr>
              <a:t>Fe map  </a:t>
            </a:r>
            <a:r>
              <a:rPr b="1" lang="en-US" sz="1400" spc="-1" strike="noStrike">
                <a:solidFill>
                  <a:srgbClr val="008000"/>
                </a:solidFill>
                <a:latin typeface="Comic Sans MS"/>
                <a:ea typeface="MS PGothic"/>
              </a:rPr>
              <a:t>bio map (pre-F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55"/>
          <p:cNvSpPr/>
          <p:nvPr/>
        </p:nvSpPr>
        <p:spPr>
          <a:xfrm>
            <a:off x="4267080" y="3129120"/>
            <a:ext cx="5335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56"/>
          <p:cNvGrpSpPr/>
          <p:nvPr/>
        </p:nvGrpSpPr>
        <p:grpSpPr>
          <a:xfrm>
            <a:off x="3962520" y="609480"/>
            <a:ext cx="2736720" cy="3124080"/>
            <a:chOff x="3962520" y="609480"/>
            <a:chExt cx="2736720" cy="3124080"/>
          </a:xfrm>
        </p:grpSpPr>
        <p:pic>
          <p:nvPicPr>
            <p:cNvPr id="69" name="Picture 57" descr=""/>
            <p:cNvPicPr/>
            <p:nvPr/>
          </p:nvPicPr>
          <p:blipFill>
            <a:blip r:embed="rId3"/>
            <a:stretch/>
          </p:blipFill>
          <p:spPr>
            <a:xfrm>
              <a:off x="3962520" y="609480"/>
              <a:ext cx="273672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Line 58"/>
            <p:cNvSpPr/>
            <p:nvPr/>
          </p:nvSpPr>
          <p:spPr>
            <a:xfrm>
              <a:off x="4419360" y="3428640"/>
              <a:ext cx="4568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Text Box 59"/>
          <p:cNvSpPr/>
          <p:nvPr/>
        </p:nvSpPr>
        <p:spPr>
          <a:xfrm>
            <a:off x="4363560" y="3048120"/>
            <a:ext cx="60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MS PGothic"/>
              </a:rPr>
              <a:t>2 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7"/>
          <p:cNvSpPr/>
          <p:nvPr/>
        </p:nvSpPr>
        <p:spPr>
          <a:xfrm>
            <a:off x="5334120" y="2362320"/>
            <a:ext cx="83808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2" descr=""/>
          <p:cNvPicPr/>
          <p:nvPr/>
        </p:nvPicPr>
        <p:blipFill>
          <a:blip r:embed="rId4"/>
          <a:stretch/>
        </p:blipFill>
        <p:spPr>
          <a:xfrm>
            <a:off x="4108320" y="7132680"/>
            <a:ext cx="2505240" cy="15904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2"/>
          <p:cNvSpPr/>
          <p:nvPr/>
        </p:nvSpPr>
        <p:spPr>
          <a:xfrm>
            <a:off x="4776120" y="7165800"/>
            <a:ext cx="1174320" cy="21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mic Sans MS"/>
                <a:ea typeface="MS PGothic"/>
              </a:rPr>
              <a:t>As </a:t>
            </a:r>
            <a:r>
              <a:rPr b="1" lang="en-US" sz="1400" spc="-1" strike="noStrike">
                <a:solidFill>
                  <a:srgbClr val="00cc00"/>
                </a:solidFill>
                <a:latin typeface="Comic Sans MS"/>
                <a:ea typeface="MS PGothic"/>
              </a:rPr>
              <a:t>Fe</a:t>
            </a:r>
            <a:r>
              <a:rPr b="1" lang="en-US" sz="1400" spc="-1" strike="noStrike">
                <a:solidFill>
                  <a:srgbClr val="00ff00"/>
                </a:solidFill>
                <a:latin typeface="Comic Sans MS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Comic Sans MS"/>
                <a:ea typeface="MS PGothic"/>
              </a:rPr>
              <a:t>As/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98"/>
          <p:cNvSpPr/>
          <p:nvPr/>
        </p:nvSpPr>
        <p:spPr>
          <a:xfrm>
            <a:off x="6089760" y="8537400"/>
            <a:ext cx="333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3"/>
          <p:cNvSpPr/>
          <p:nvPr/>
        </p:nvSpPr>
        <p:spPr>
          <a:xfrm>
            <a:off x="5848200" y="823284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MS PGothic"/>
              </a:rPr>
              <a:t>500 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4" descr=""/>
          <p:cNvPicPr/>
          <p:nvPr/>
        </p:nvPicPr>
        <p:blipFill>
          <a:blip r:embed="rId5"/>
          <a:stretch/>
        </p:blipFill>
        <p:spPr>
          <a:xfrm>
            <a:off x="4114800" y="3809880"/>
            <a:ext cx="2505240" cy="15940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2"/>
          <p:cNvSpPr/>
          <p:nvPr/>
        </p:nvSpPr>
        <p:spPr>
          <a:xfrm>
            <a:off x="4919400" y="3773520"/>
            <a:ext cx="84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  <a:ea typeface="MS PGothic"/>
              </a:rPr>
              <a:t>Arsen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96"/>
          <p:cNvGrpSpPr/>
          <p:nvPr/>
        </p:nvGrpSpPr>
        <p:grpSpPr>
          <a:xfrm>
            <a:off x="6240240" y="3770280"/>
            <a:ext cx="384840" cy="1686960"/>
            <a:chOff x="6240240" y="3770280"/>
            <a:chExt cx="384840" cy="1686960"/>
          </a:xfrm>
        </p:grpSpPr>
        <p:pic>
          <p:nvPicPr>
            <p:cNvPr id="80" name="Picture 97" descr=""/>
            <p:cNvPicPr/>
            <p:nvPr/>
          </p:nvPicPr>
          <p:blipFill>
            <a:blip r:embed="rId6"/>
            <a:stretch/>
          </p:blipFill>
          <p:spPr>
            <a:xfrm>
              <a:off x="6318360" y="4041720"/>
              <a:ext cx="228600" cy="1141560"/>
            </a:xfrm>
            <a:prstGeom prst="rect">
              <a:avLst/>
            </a:prstGeom>
            <a:ln w="9360">
              <a:solidFill>
                <a:srgbClr val="7f7f7f"/>
              </a:solidFill>
              <a:miter/>
            </a:ln>
          </p:spPr>
        </p:pic>
        <p:sp>
          <p:nvSpPr>
            <p:cNvPr id="81" name="Text Box 32"/>
            <p:cNvSpPr/>
            <p:nvPr/>
          </p:nvSpPr>
          <p:spPr>
            <a:xfrm>
              <a:off x="6240240" y="377028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mic Sans MS"/>
                  <a:ea typeface="MS PGothic"/>
                </a:rPr>
                <a:t>6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32"/>
            <p:cNvSpPr/>
            <p:nvPr/>
          </p:nvSpPr>
          <p:spPr>
            <a:xfrm>
              <a:off x="6291000" y="515016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mic Sans MS"/>
                  <a:ea typeface="MS PGothic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" name="Picture 22" descr=""/>
          <p:cNvPicPr/>
          <p:nvPr/>
        </p:nvPicPr>
        <p:blipFill>
          <a:blip r:embed="rId7"/>
          <a:srcRect l="537" t="0" r="0" b="0"/>
          <a:stretch/>
        </p:blipFill>
        <p:spPr>
          <a:xfrm>
            <a:off x="4119480" y="5484960"/>
            <a:ext cx="2492280" cy="15904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28"/>
          <p:cNvSpPr/>
          <p:nvPr/>
        </p:nvSpPr>
        <p:spPr>
          <a:xfrm>
            <a:off x="5074560" y="5502240"/>
            <a:ext cx="55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  <a:ea typeface="MS PGothic"/>
              </a:rPr>
              <a:t>I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76"/>
          <p:cNvGrpSpPr/>
          <p:nvPr/>
        </p:nvGrpSpPr>
        <p:grpSpPr>
          <a:xfrm>
            <a:off x="6201720" y="5446800"/>
            <a:ext cx="487080" cy="1686600"/>
            <a:chOff x="6201720" y="5446800"/>
            <a:chExt cx="487080" cy="1686600"/>
          </a:xfrm>
        </p:grpSpPr>
        <p:pic>
          <p:nvPicPr>
            <p:cNvPr id="86" name="Picture 77" descr=""/>
            <p:cNvPicPr/>
            <p:nvPr/>
          </p:nvPicPr>
          <p:blipFill>
            <a:blip r:embed="rId8"/>
            <a:stretch/>
          </p:blipFill>
          <p:spPr>
            <a:xfrm>
              <a:off x="6332400" y="5718240"/>
              <a:ext cx="226800" cy="1141200"/>
            </a:xfrm>
            <a:prstGeom prst="rect">
              <a:avLst/>
            </a:prstGeom>
            <a:ln w="9360">
              <a:solidFill>
                <a:srgbClr val="7f7f7f"/>
              </a:solidFill>
              <a:miter/>
            </a:ln>
          </p:spPr>
        </p:pic>
        <p:sp>
          <p:nvSpPr>
            <p:cNvPr id="87" name="Text Box 32"/>
            <p:cNvSpPr/>
            <p:nvPr/>
          </p:nvSpPr>
          <p:spPr>
            <a:xfrm>
              <a:off x="6201720" y="5446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mic Sans MS"/>
                  <a:ea typeface="MS PGothic"/>
                </a:rPr>
                <a:t>13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32"/>
            <p:cNvSpPr/>
            <p:nvPr/>
          </p:nvSpPr>
          <p:spPr>
            <a:xfrm>
              <a:off x="6303600" y="682632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mic Sans MS"/>
                  <a:ea typeface="MS PGothic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671760" y="569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039920" y="6858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16600" y="3886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116240" y="55008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16600" y="710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1932120" cy="2157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667400" y="457200"/>
            <a:ext cx="2190600" cy="23623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800240" y="8806680"/>
            <a:ext cx="177012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28800" y="2895480"/>
            <a:ext cx="232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s(III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non-As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As(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92160" y="15228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s(I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057760" y="6094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063520" y="231624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73960" y="15228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As(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4840" y="281952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non-A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consta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945760" y="19414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As-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792400" y="76212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s-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2666880" y="533520"/>
            <a:ext cx="1936800" cy="21621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135320" y="6858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25680" y="239220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533520" y="3352680"/>
            <a:ext cx="1954080" cy="2159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134080" y="34290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05280" y="51354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014440" y="3636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 / 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2666880" y="3352680"/>
            <a:ext cx="1928880" cy="21607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882880" y="2932200"/>
            <a:ext cx="106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4724280" y="3352680"/>
            <a:ext cx="2019600" cy="2159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7"/>
          <a:stretch/>
        </p:blipFill>
        <p:spPr>
          <a:xfrm>
            <a:off x="457200" y="5877000"/>
            <a:ext cx="1400040" cy="14745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8"/>
          <a:stretch/>
        </p:blipFill>
        <p:spPr>
          <a:xfrm>
            <a:off x="457200" y="7705800"/>
            <a:ext cx="1386000" cy="14382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44240" y="728496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ol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1760" y="552276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9"/>
          <a:stretch/>
        </p:blipFill>
        <p:spPr>
          <a:xfrm>
            <a:off x="2286000" y="571500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946040" y="7848720"/>
            <a:ext cx="1360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As(III)         3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As(V)         8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          6.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/III           2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736720" y="7924680"/>
            <a:ext cx="1310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As(III)        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As(V)        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         6.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/III        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0"/>
          <a:stretch/>
        </p:blipFill>
        <p:spPr>
          <a:xfrm>
            <a:off x="4572000" y="563868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505320" y="457200"/>
            <a:ext cx="3206520" cy="20574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173480" y="8609760"/>
            <a:ext cx="253224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-XRF-mapping - re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04920" y="609480"/>
            <a:ext cx="1938240" cy="1710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44960" y="112680"/>
            <a:ext cx="298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g signal from XRF y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kely composition ? MgO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253760" y="3636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RF-yield NEXA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72160" y="4935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929560" y="798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ff"/>
                </a:solidFill>
                <a:latin typeface="Arial"/>
              </a:rPr>
              <a:t>M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29720" y="15746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00920" y="18432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As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4648320" y="3048120"/>
            <a:ext cx="2023920" cy="18507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091840" y="2703600"/>
            <a:ext cx="17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(V) scorod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2362320" y="3048120"/>
            <a:ext cx="2100240" cy="19317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668680" y="2743200"/>
            <a:ext cx="164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As(III) tooeil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228600" y="2971800"/>
            <a:ext cx="2071800" cy="19018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24160" y="2575080"/>
            <a:ext cx="185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MgO (from XRF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3733920" y="5334120"/>
            <a:ext cx="2749320" cy="29098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887280" y="4952880"/>
            <a:ext cx="232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s(III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non-As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As(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7"/>
          <a:stretch/>
        </p:blipFill>
        <p:spPr>
          <a:xfrm>
            <a:off x="380880" y="6400800"/>
            <a:ext cx="2246400" cy="22525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297800" y="794844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As(III) tooeil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48120" y="6826320"/>
            <a:ext cx="156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As(V) scorod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-7200" y="5257800"/>
            <a:ext cx="362952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gitized ref. spectra from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ochim_Cosmochim_Ac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2_2008_3949-As-NEXAFS-acid-mines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52280" y="7315200"/>
            <a:ext cx="2133720" cy="17254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-XRF-mapping – fits(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800600" y="457200"/>
            <a:ext cx="1360440" cy="1440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4420800" y="1981080"/>
            <a:ext cx="232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s(III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non-As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As(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267080" y="5562720"/>
            <a:ext cx="2246400" cy="22525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184000" y="711036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As(III) tooeil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34320" y="5987880"/>
            <a:ext cx="156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As(V) scorod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380880" y="457200"/>
            <a:ext cx="1303560" cy="1440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34960" y="763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s(I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324440" y="4143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380600" y="1676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1752480" y="457200"/>
            <a:ext cx="1289160" cy="1440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743560" y="4446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799720" y="1706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83240" y="15228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As(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6"/>
          <a:stretch/>
        </p:blipFill>
        <p:spPr>
          <a:xfrm>
            <a:off x="3276720" y="457200"/>
            <a:ext cx="1292040" cy="1440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128040" y="7632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non-A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consta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7"/>
          <a:stretch/>
        </p:blipFill>
        <p:spPr>
          <a:xfrm>
            <a:off x="4618080" y="2590920"/>
            <a:ext cx="1689120" cy="18288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8"/>
          <a:srcRect l="3710" t="0" r="0" b="0"/>
          <a:stretch/>
        </p:blipFill>
        <p:spPr>
          <a:xfrm>
            <a:off x="2057400" y="2362320"/>
            <a:ext cx="1981080" cy="20574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508120" y="4495680"/>
            <a:ext cx="131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As(III)         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As(V)         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         5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3000" y="4495680"/>
            <a:ext cx="131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As(III)         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As(V)        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         4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9"/>
          <a:srcRect l="3710" t="0" r="0" b="0"/>
          <a:stretch/>
        </p:blipFill>
        <p:spPr>
          <a:xfrm>
            <a:off x="220680" y="2438280"/>
            <a:ext cx="1760400" cy="18288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0"/>
          <a:stretch/>
        </p:blipFill>
        <p:spPr>
          <a:xfrm>
            <a:off x="152280" y="5410080"/>
            <a:ext cx="1905120" cy="17208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445680" y="2025720"/>
            <a:ext cx="12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As(III) - r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441160" y="20574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As(V) - r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191120" y="4648320"/>
            <a:ext cx="2377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nd range to 1380 eV &amp; Smoothing ref. spectra will improve 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6040" y="80773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As(III) tooeil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1"/>
          <a:stretch/>
        </p:blipFill>
        <p:spPr>
          <a:xfrm>
            <a:off x="2438280" y="7086600"/>
            <a:ext cx="2057400" cy="18622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897280" y="7924680"/>
            <a:ext cx="156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As(V) scorod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624852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II-rich &amp; V-rich pectra differ 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2133720" cy="17258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-XRF-mapping – fits(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267080" y="5562720"/>
            <a:ext cx="2246400" cy="22525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5184000" y="711036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As(III) tooeil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134320" y="5987880"/>
            <a:ext cx="156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As(V) scorod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08120" y="4495680"/>
            <a:ext cx="131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As(III)         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As(V)         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         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3000" y="4495680"/>
            <a:ext cx="131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As(III)         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As(V)        3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        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152280" y="5410080"/>
            <a:ext cx="3505320" cy="31672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445680" y="2025720"/>
            <a:ext cx="12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As(III) - r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441160" y="20574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As(V) - r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0" y="228600"/>
            <a:ext cx="237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nd range to 1380 eV &amp; Smoothing ref. spectra will improve 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2000" y="1143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As(III) tooeil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2514600" y="152280"/>
            <a:ext cx="2057400" cy="18622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2973600" y="990720"/>
            <a:ext cx="156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As(V) scorod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523880" y="75438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II-ri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amp;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 V-ri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pectra differ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90520" y="-39600"/>
            <a:ext cx="14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 re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2666880" y="2514600"/>
            <a:ext cx="1735200" cy="18288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457200" y="251460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4785840" y="247500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D 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330800" y="4836960"/>
            <a:ext cx="23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RF-yield red spec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29200" y="8381880"/>
            <a:ext cx="161784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S_Feb2012_Mg_As_ma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30040" y="49320"/>
            <a:ext cx="520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 of use of stacks~analyse~XRF-stack-of-sta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3567240" cy="23576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051200" y="252576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 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3840" y="746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3809880" y="3200400"/>
            <a:ext cx="2190960" cy="24382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4100760" y="336384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876920" y="342900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All pea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471640" y="519264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547960" y="4506840"/>
            <a:ext cx="3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152280" y="3276720"/>
            <a:ext cx="2664000" cy="25146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1600200" y="3124080"/>
            <a:ext cx="2209680" cy="14194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057400" y="3427560"/>
            <a:ext cx="533520" cy="1068120"/>
          </a:xfrm>
          <a:custGeom>
            <a:avLst/>
            <a:gdLst/>
            <a:ahLst/>
            <a:rect l="l" t="t" r="r" b="b"/>
            <a:pathLst>
              <a:path w="336" h="673">
                <a:moveTo>
                  <a:pt x="0" y="673"/>
                </a:moveTo>
                <a:lnTo>
                  <a:pt x="0" y="577"/>
                </a:lnTo>
                <a:cubicBezTo>
                  <a:pt x="24" y="545"/>
                  <a:pt x="104" y="553"/>
                  <a:pt x="144" y="481"/>
                </a:cubicBezTo>
                <a:cubicBezTo>
                  <a:pt x="184" y="409"/>
                  <a:pt x="211" y="225"/>
                  <a:pt x="240" y="145"/>
                </a:cubicBezTo>
                <a:cubicBezTo>
                  <a:pt x="269" y="65"/>
                  <a:pt x="305" y="19"/>
                  <a:pt x="317" y="0"/>
                </a:cubicBezTo>
                <a:lnTo>
                  <a:pt x="312" y="30"/>
                </a:lnTo>
                <a:lnTo>
                  <a:pt x="336" y="673"/>
                </a:lnTo>
                <a:lnTo>
                  <a:pt x="0" y="673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50960" y="3151080"/>
            <a:ext cx="801720" cy="1344600"/>
          </a:xfrm>
          <a:custGeom>
            <a:avLst/>
            <a:gdLst/>
            <a:ahLst/>
            <a:rect l="l" t="t" r="r" b="b"/>
            <a:pathLst>
              <a:path w="505" h="847">
                <a:moveTo>
                  <a:pt x="25" y="847"/>
                </a:moveTo>
                <a:lnTo>
                  <a:pt x="505" y="847"/>
                </a:lnTo>
                <a:lnTo>
                  <a:pt x="505" y="751"/>
                </a:lnTo>
                <a:lnTo>
                  <a:pt x="409" y="655"/>
                </a:lnTo>
                <a:lnTo>
                  <a:pt x="313" y="415"/>
                </a:lnTo>
                <a:lnTo>
                  <a:pt x="217" y="127"/>
                </a:lnTo>
                <a:cubicBezTo>
                  <a:pt x="187" y="62"/>
                  <a:pt x="156" y="43"/>
                  <a:pt x="132" y="27"/>
                </a:cubicBezTo>
                <a:cubicBezTo>
                  <a:pt x="108" y="11"/>
                  <a:pt x="95" y="0"/>
                  <a:pt x="73" y="31"/>
                </a:cubicBezTo>
                <a:cubicBezTo>
                  <a:pt x="51" y="62"/>
                  <a:pt x="8" y="77"/>
                  <a:pt x="0" y="213"/>
                </a:cubicBezTo>
                <a:lnTo>
                  <a:pt x="25" y="847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300320" y="6095880"/>
            <a:ext cx="163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As </a:t>
            </a: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Mg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 “bi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85640" y="6553080"/>
            <a:ext cx="1319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mic Sans MS"/>
              </a:rPr>
              <a:t>As sig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Comic Sans MS"/>
              </a:rPr>
              <a:t>Mg sig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Comic Sans MS"/>
              </a:rPr>
              <a:t>44 OD (1300 e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Comic Sans MS"/>
              </a:rPr>
              <a:t>Clipped 0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3967200" y="7086600"/>
            <a:ext cx="252360" cy="1389240"/>
            <a:chOff x="3967200" y="7086600"/>
            <a:chExt cx="252360" cy="1389240"/>
          </a:xfrm>
        </p:grpSpPr>
        <p:pic>
          <p:nvPicPr>
            <p:cNvPr id="211" name="" descr=""/>
            <p:cNvPicPr/>
            <p:nvPr/>
          </p:nvPicPr>
          <p:blipFill>
            <a:blip r:embed="rId5"/>
            <a:stretch/>
          </p:blipFill>
          <p:spPr>
            <a:xfrm>
              <a:off x="4024440" y="7329240"/>
              <a:ext cx="10944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3967200" y="708660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967200" y="822960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018320" y="8534520"/>
            <a:ext cx="45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838080" y="6629400"/>
            <a:ext cx="2952360" cy="2327040"/>
            <a:chOff x="838080" y="6629400"/>
            <a:chExt cx="2952360" cy="2327040"/>
          </a:xfrm>
        </p:grpSpPr>
        <p:pic>
          <p:nvPicPr>
            <p:cNvPr id="216" name="" descr=""/>
            <p:cNvPicPr/>
            <p:nvPr/>
          </p:nvPicPr>
          <p:blipFill>
            <a:blip r:embed="rId6"/>
            <a:stretch/>
          </p:blipFill>
          <p:spPr>
            <a:xfrm>
              <a:off x="838080" y="6629400"/>
              <a:ext cx="2952360" cy="23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1488960" y="8431200"/>
              <a:ext cx="561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1509120" y="8077320"/>
            <a:ext cx="60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2 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42640" y="6705720"/>
            <a:ext cx="38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58800" y="6705720"/>
            <a:ext cx="45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Comic Sans MS"/>
              </a:rPr>
              <a:t>M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4480" y="3276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14400" y="685800"/>
            <a:ext cx="2743200" cy="19810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4284360" y="7086600"/>
            <a:ext cx="372960" cy="1389240"/>
            <a:chOff x="4284360" y="7086600"/>
            <a:chExt cx="372960" cy="1389240"/>
          </a:xfrm>
        </p:grpSpPr>
        <p:sp>
          <p:nvSpPr>
            <p:cNvPr id="224" name=""/>
            <p:cNvSpPr/>
            <p:nvPr/>
          </p:nvSpPr>
          <p:spPr>
            <a:xfrm>
              <a:off x="4284360" y="7086600"/>
              <a:ext cx="36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1.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404960" y="822960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6" name="" descr=""/>
            <p:cNvPicPr/>
            <p:nvPr/>
          </p:nvPicPr>
          <p:blipFill>
            <a:blip r:embed="rId7"/>
            <a:stretch/>
          </p:blipFill>
          <p:spPr>
            <a:xfrm>
              <a:off x="4433760" y="7331040"/>
              <a:ext cx="109440" cy="914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3T21:04:28Z</dcterms:created>
  <dc:creator>aph</dc:creator>
  <dc:description/>
  <dc:language>en-US</dc:language>
  <cp:lastModifiedBy>Adam Hitchcock</cp:lastModifiedBy>
  <dcterms:modified xsi:type="dcterms:W3CDTF">2023-05-07T20:49:06Z</dcterms:modified>
  <cp:revision>54</cp:revision>
  <dc:subject/>
  <dc:title>Fig. 1</dc:title>
</cp:coreProperties>
</file>